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45.jpeg" ContentType="image/jpe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28.jpeg" ContentType="image/jpeg"/>
  <Override PartName="/ppt/media/image37.jpeg" ContentType="image/jpeg"/>
  <Override PartName="/ppt/media/image44.jpeg" ContentType="image/jpeg"/>
  <Override PartName="/ppt/media/image9.png" ContentType="image/png"/>
  <Override PartName="/ppt/media/image46.png" ContentType="image/png"/>
  <Override PartName="/ppt/media/image11.png" ContentType="image/png"/>
  <Override PartName="/ppt/media/image19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5.png" ContentType="image/png"/>
  <Override PartName="/ppt/media/image43.jpeg" ContentType="image/jpeg"/>
  <Override PartName="/ppt/media/image42.gif" ContentType="image/gif"/>
  <Override PartName="/ppt/media/image13.jpeg" ContentType="image/jpeg"/>
  <Override PartName="/ppt/media/image2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B94-00E0-499E-97C3-B4E15980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4FE-820D-4DC6-B8BA-A15A2BCA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7AF-D678-4F00-AC43-D2B12763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8A1-82D0-4172-9C90-EEF9EF7A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4EC4-35C0-4483-8554-95843803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6D73-32CF-4613-A40C-22F4F678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0EB4-4358-43C6-8AEF-7E93F4F7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1EE3-C43D-4C79-B89B-4C19981D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8A8E-78B4-42D7-B5EA-3E31142C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AEC9-EA7F-401C-A9BE-280772A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D4D-CF38-471F-86D6-B65F13B9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74E-0FC1-4988-9A9C-9329FF14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9B5B-CE77-4C0F-80A4-10F361E3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8485-A9C4-4AE9-8A00-8A2880D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B453-EFE5-4C95-BD02-51848D1E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3D78-ED39-4251-8912-C565A6C2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D3D0-A523-451B-8991-4C798960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290A-17D4-4758-A2C0-A5D9CE5D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E2AC-587F-4EF5-9C0B-E23F93B7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6568-4529-47A8-B13B-D87BA034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F427-C566-4752-AC9E-F3A5F54B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47B9-1DCD-4867-B3F7-D808B9F7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293-D168-4966-9184-AE848FC6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54EC-908B-45E8-ADC0-B73F2D1F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B61A-A41C-4A28-B938-1F234112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CFA53-1783-4ADA-8DA8-521B70D6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DA41-3016-49F1-BFA9-09D8595D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A17F-21A2-436B-AB04-0975006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E584B-E8C9-4E74-8377-39762C7D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8094-B249-4E07-8559-CEBCB774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73C7-3208-45B5-A594-04502768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0DB6-F5EE-424B-BEC3-53DDC6A4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052D-03B4-47DD-9971-9E1B34DA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665-597D-4BF8-AAA3-B1D0C933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4FC0F-8208-4C6E-AAF7-B46AF752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234EA-F790-4090-BB86-48D2D7F8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7C99-BC0F-45CE-9618-EB0A9D54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3BDDE-920E-4AA7-8CE4-749B715A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9F5CA-06D4-4E78-A1DB-F4F1D245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7F4B-D2B4-416C-A568-5F1A06A7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E7EA2-ADE1-4683-801A-3139268C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8F15-4A9B-47CC-9B96-6018F546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6392-EDE8-4954-8A1E-DEB990BF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7CF-8E8A-4723-A890-D8764FF9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DFA-30DD-49B8-8652-037A87F1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D8C-3CF8-4AEA-A0BB-AED73441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402-F63C-4294-85D7-2345462F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841-1C05-442F-849A-07B6A75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303D-334A-4ADC-B47F-EB84C455A7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350A-0A55-44BF-B497-B406362A12E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62F2-9592-4387-A4C5-038D214EC9C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41D0-E681-4146-B59D-F6B47AD3DA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918560" cy="1981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nstantia"/>
              </a:rPr>
              <a:t>Adapted from Hempfield High Boot Camp , Cook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rowth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w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904760"/>
            <a:ext cx="40384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6" descr="http://whatdoclientsreallywant.com/wp-content/uploads/2012/09/big_apple_small_apple.jpg"/>
          <p:cNvPicPr/>
          <p:nvPr/>
        </p:nvPicPr>
        <p:blipFill>
          <a:blip r:embed="rId1"/>
          <a:stretch/>
        </p:blipFill>
        <p:spPr>
          <a:xfrm>
            <a:off x="152280" y="2590920"/>
            <a:ext cx="374040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http://www.deviantart.com/download/169407062/Life_Stages_by_dawningsun.png"/>
          <p:cNvPicPr/>
          <p:nvPr/>
        </p:nvPicPr>
        <p:blipFill>
          <a:blip r:embed="rId2"/>
          <a:stretch/>
        </p:blipFill>
        <p:spPr>
          <a:xfrm>
            <a:off x="4648320" y="2514600"/>
            <a:ext cx="41907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855800"/>
            <a:ext cx="34308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exual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90960" y="1860120"/>
            <a:ext cx="28954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Asex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8" descr="http://www.world-builders.org/lessons/less/les4/genes/asex.gif"/>
          <p:cNvPicPr/>
          <p:nvPr/>
        </p:nvPicPr>
        <p:blipFill>
          <a:blip r:embed="rId1"/>
          <a:stretch/>
        </p:blipFill>
        <p:spPr>
          <a:xfrm>
            <a:off x="5257800" y="2438280"/>
            <a:ext cx="3422520" cy="329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http://www.ewart.org.uk/biology/pics/sexual.gif"/>
          <p:cNvPicPr/>
          <p:nvPr/>
        </p:nvPicPr>
        <p:blipFill>
          <a:blip r:embed="rId2"/>
          <a:stretch/>
        </p:blipFill>
        <p:spPr>
          <a:xfrm>
            <a:off x="0" y="2514600"/>
            <a:ext cx="4581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nge through ti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bio1903.nicerweb.com/Locked/media/ch22/22_10ArtifSelection.jpg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ctotherms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ptiles, fish and amphibia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mo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10" descr="http://www.sheppardsoftware.com/content/animals/kidscorner/images/classification/coldbloodedfrog.gif"/>
          <p:cNvPicPr/>
          <p:nvPr/>
        </p:nvPicPr>
        <p:blipFill>
          <a:blip r:embed="rId1"/>
          <a:stretch/>
        </p:blipFill>
        <p:spPr>
          <a:xfrm>
            <a:off x="930240" y="2666880"/>
            <a:ext cx="793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otherms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mmals and bir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mo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bears are warm blooded animals"/>
          <p:cNvPicPr/>
          <p:nvPr/>
        </p:nvPicPr>
        <p:blipFill>
          <a:blip r:embed="rId1"/>
          <a:stretch/>
        </p:blipFill>
        <p:spPr>
          <a:xfrm>
            <a:off x="762120" y="2590920"/>
            <a:ext cx="7783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regulation (osmoregul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5" descr="http://renux.dmed.ed.ac.uk/EdREN/EdRenINFObits/hydronephrosisb.gif"/>
          <p:cNvPicPr/>
          <p:nvPr/>
        </p:nvPicPr>
        <p:blipFill>
          <a:blip r:embed="rId1"/>
          <a:stretch/>
        </p:blipFill>
        <p:spPr>
          <a:xfrm>
            <a:off x="2286000" y="1905120"/>
            <a:ext cx="47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xygen 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5" descr="http://www.emc.maricopa.edu/faculty/farabee/biobk/gasexch1.gif"/>
          <p:cNvPicPr/>
          <p:nvPr/>
        </p:nvPicPr>
        <p:blipFill>
          <a:blip r:embed="rId1"/>
          <a:stretch/>
        </p:blipFill>
        <p:spPr>
          <a:xfrm>
            <a:off x="304920" y="2209680"/>
            <a:ext cx="4267080" cy="3686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http://rbssanimalsystems3.wikispaces.com/file/view/gills.gif/291073377/gills.gif"/>
          <p:cNvPicPr/>
          <p:nvPr/>
        </p:nvPicPr>
        <p:blipFill>
          <a:blip r:embed="rId2"/>
          <a:stretch/>
        </p:blipFill>
        <p:spPr>
          <a:xfrm>
            <a:off x="4876920" y="1447920"/>
            <a:ext cx="38955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Prokaryotes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43792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cellul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ck true nucle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ck membrane-bound organel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single loop of DN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ribosom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: bacte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876560" y="243792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 or multicellul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a true nucle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a wide variety of membrane-bound organel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DNA in chromosom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: fungi, protists, plants, anima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Content Placeholder 8" descr="http://www.phschool.com/science/biology_place/biocoach/images/cells/allcell.jpg"/>
          <p:cNvPicPr/>
          <p:nvPr/>
        </p:nvPicPr>
        <p:blipFill>
          <a:blip r:embed="rId1"/>
          <a:stretch/>
        </p:blipFill>
        <p:spPr>
          <a:xfrm>
            <a:off x="0" y="685800"/>
            <a:ext cx="87710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57150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Cell Organelles 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 tiny structures that carry out functions necessary for the cell to stay aliv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5" descr="http://www.enchantedlearning.com/subjects/plants/cell/anatomy.GIF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ich of the following is an example of homeostasis found in your bod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you eat food because it tastes go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. you shiver because you are co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. you stay well because you take antibiotics when you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 si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. you get sick when invaded by a pathog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. you eat more and gain weigh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http://www.enchantedlearning.com/subjects/animals/cell/anatomy.GIF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22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5" descr="http://peer.tamu.edu/curriculum_modules/cell_biology/module_1/levels%20of%20organization.jpg"/>
          <p:cNvPicPr/>
          <p:nvPr/>
        </p:nvPicPr>
        <p:blipFill>
          <a:blip r:embed="rId1"/>
          <a:stretch/>
        </p:blipFill>
        <p:spPr>
          <a:xfrm>
            <a:off x="190512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7" descr="http://www.mlms.loganschools.org/~ksorensen/Cells/Cell%20Pictures/Levels%20of%20Organization%20jpg.JPG"/>
          <p:cNvPicPr/>
          <p:nvPr/>
        </p:nvPicPr>
        <p:blipFill>
          <a:blip r:embed="rId1"/>
          <a:stretch/>
        </p:blipFill>
        <p:spPr>
          <a:xfrm>
            <a:off x="1295280" y="0"/>
            <a:ext cx="632484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5" descr="http://images.emedicinehealth.com/images/eMedicineHealth/illustrations/blood_cells.jpg"/>
          <p:cNvPicPr/>
          <p:nvPr/>
        </p:nvPicPr>
        <p:blipFill>
          <a:blip r:embed="rId1"/>
          <a:stretch/>
        </p:blipFill>
        <p:spPr>
          <a:xfrm>
            <a:off x="228600" y="1447920"/>
            <a:ext cx="3124080" cy="3411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http://im.glogster.com/media/4/20/14/90/20149068.jpg"/>
          <p:cNvPicPr/>
          <p:nvPr/>
        </p:nvPicPr>
        <p:blipFill>
          <a:blip r:embed="rId2"/>
          <a:stretch/>
        </p:blipFill>
        <p:spPr>
          <a:xfrm>
            <a:off x="510552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upload.wikimedia.org/wikipedia/commons/thumb/b/bc/Neuron_Hand-tuned.svg/400px-Neuron_Hand-tuned.svg.png"/>
          <p:cNvPicPr/>
          <p:nvPr/>
        </p:nvPicPr>
        <p:blipFill>
          <a:blip r:embed="rId3"/>
          <a:stretch/>
        </p:blipFill>
        <p:spPr>
          <a:xfrm>
            <a:off x="2743200" y="4114800"/>
            <a:ext cx="46483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9" descr="http://preview.turbosquid.com/Preview/Content_2010_12_08__08_59_03/skincell04.jpg04eef3bf-4cbc-46ec-be2c-9cc856456abeLarger.jpg"/>
          <p:cNvPicPr/>
          <p:nvPr/>
        </p:nvPicPr>
        <p:blipFill>
          <a:blip r:embed="rId1"/>
          <a:stretch/>
        </p:blipFill>
        <p:spPr>
          <a:xfrm>
            <a:off x="5486400" y="17524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farm3.static.flickr.com/2640/4062055689_0f0a9747a9.jpg"/>
          <p:cNvPicPr/>
          <p:nvPr/>
        </p:nvPicPr>
        <p:blipFill>
          <a:blip r:embed="rId2"/>
          <a:stretch/>
        </p:blipFill>
        <p:spPr>
          <a:xfrm>
            <a:off x="533520" y="1447920"/>
            <a:ext cx="3524040" cy="2352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http://www.psychologytoday.com/files/u203/Sperm.jpg"/>
          <p:cNvPicPr/>
          <p:nvPr/>
        </p:nvPicPr>
        <p:blipFill>
          <a:blip r:embed="rId3"/>
          <a:stretch/>
        </p:blipFill>
        <p:spPr>
          <a:xfrm>
            <a:off x="2057400" y="3809880"/>
            <a:ext cx="33526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hyperphysics.phy-astr.gsu.edu/hbase/biology/biopic/alvlung.jpg"/>
          <p:cNvPicPr/>
          <p:nvPr/>
        </p:nvPicPr>
        <p:blipFill>
          <a:blip r:embed="rId1"/>
          <a:stretch/>
        </p:blipFill>
        <p:spPr>
          <a:xfrm>
            <a:off x="685800" y="1447920"/>
            <a:ext cx="2819520" cy="4903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http://apainlessjourney.files.wordpress.com/2010/09/17-intestinal-villi-jejunum-a.jpg"/>
          <p:cNvPicPr/>
          <p:nvPr/>
        </p:nvPicPr>
        <p:blipFill>
          <a:blip r:embed="rId2"/>
          <a:stretch/>
        </p:blipFill>
        <p:spPr>
          <a:xfrm>
            <a:off x="3962520" y="2133720"/>
            <a:ext cx="46162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lasma Membrane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uid Mosaic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5" descr="http://images.wikia.com/aecbio11/images/7/7d/Phospholopid_bilayer.gif"/>
          <p:cNvPicPr/>
          <p:nvPr/>
        </p:nvPicPr>
        <p:blipFill>
          <a:blip r:embed="rId1"/>
          <a:stretch/>
        </p:blipFill>
        <p:spPr>
          <a:xfrm>
            <a:off x="6477120" y="0"/>
            <a:ext cx="2455920" cy="187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http://eweb.furman.edu/~wworthen/bio111/2membrane.jpg"/>
          <p:cNvPicPr/>
          <p:nvPr/>
        </p:nvPicPr>
        <p:blipFill>
          <a:blip r:embed="rId2"/>
          <a:stretch/>
        </p:blipFill>
        <p:spPr>
          <a:xfrm>
            <a:off x="457200" y="1905120"/>
            <a:ext cx="7943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5" descr="http://upload.wikimedia.org/wikipedia/commons/thumb/1/12/Diffusion.svg/220px-Diffusion.svg.png"/>
          <p:cNvPicPr/>
          <p:nvPr/>
        </p:nvPicPr>
        <p:blipFill>
          <a:blip r:embed="rId1"/>
          <a:stretch/>
        </p:blipFill>
        <p:spPr>
          <a:xfrm>
            <a:off x="152280" y="1295280"/>
            <a:ext cx="2513160" cy="153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http://www.biologyguide.net/img/notes/32.png"/>
          <p:cNvPicPr/>
          <p:nvPr/>
        </p:nvPicPr>
        <p:blipFill>
          <a:blip r:embed="rId2"/>
          <a:stretch/>
        </p:blipFill>
        <p:spPr>
          <a:xfrm>
            <a:off x="2590920" y="2584440"/>
            <a:ext cx="6705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5" descr="http://deltabiology.com/wp-content/uploads/2012/01/osmosis3.gif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Picture 7" descr="http://2.bp.blogspot.com/_hhUdKwzDmA4/S3LLpGCVZwI/AAAAAAAAAbk/TFdIqp9C_k4/s400/hyper,+hypo,+iso.jpg"/>
          <p:cNvPicPr/>
          <p:nvPr/>
        </p:nvPicPr>
        <p:blipFill>
          <a:blip r:embed="rId1"/>
          <a:stretch/>
        </p:blipFill>
        <p:spPr>
          <a:xfrm>
            <a:off x="152280" y="1600200"/>
            <a:ext cx="8534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at is the major difference between prokaryotes and eukaryot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Prokaryotes used photosynthesis and eukaryotes d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 use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Prokaryotes have a nucleus and eukaryotes do not have a nucle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Prokaryotes do not have DNA and eukaryotes do have D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 Prokaryotes do not have a nucleus and eukaryotes do have a nucleu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. Prokaryotes used photosynthesis while eukaryotes use respi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ilitated Dif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5" descr="http://4.bp.blogspot.com/_detzCStVbk8/TJbA6H6_39I/AAAAAAAAADw/5V3zzv42JJs/s1600/facilitated.jpg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ll Membrane Pu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Picture 5" descr="http://sbi3u0.yolasite.com/resources/0645.jpg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d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2" descr="http://kenpitts.net/bio/images/endocytosis.gif"/>
          <p:cNvPicPr/>
          <p:nvPr/>
        </p:nvPicPr>
        <p:blipFill>
          <a:blip r:embed="rId1"/>
          <a:stretch/>
        </p:blipFill>
        <p:spPr>
          <a:xfrm>
            <a:off x="0" y="2514600"/>
            <a:ext cx="1021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2" descr="http://kenpitts.net/bio/images/exocytosis.gif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nsport in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s vesic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olves the endoplasmic reticulum and golgi apparat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5" descr="http://carolguze.com/images/cellorganelles/er-golgi1.jpg"/>
          <p:cNvPicPr/>
          <p:nvPr/>
        </p:nvPicPr>
        <p:blipFill>
          <a:blip r:embed="rId1"/>
          <a:stretch/>
        </p:blipFill>
        <p:spPr>
          <a:xfrm>
            <a:off x="838080" y="1905120"/>
            <a:ext cx="704556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#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ow is osmosis different from diffus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 osmosis refers to the movement of ions across the membrane while diffusion is a special type of osmo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. osmosis is a special type of diffusion involving only wa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. osmosis requires energy and diffusion does no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. osmosis requires proteins and diffusion does no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have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oostermiddle.stratfordk12.org/images/customer-images/living_vs_nonliving.JPG"/>
          <p:cNvPicPr/>
          <p:nvPr/>
        </p:nvPicPr>
        <p:blipFill>
          <a:blip r:embed="rId1"/>
          <a:stretch/>
        </p:blipFill>
        <p:spPr>
          <a:xfrm>
            <a:off x="366840" y="1981080"/>
            <a:ext cx="8253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ve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cell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cell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4.bp.blogspot.com/_rYYcdMsVqUE/TUAdFdAvVDI/AAAAAAAAABc/VgJta_GKIIc/s1600/Amoeba.jpg"/>
          <p:cNvPicPr/>
          <p:nvPr/>
        </p:nvPicPr>
        <p:blipFill>
          <a:blip r:embed="rId1"/>
          <a:stretch/>
        </p:blipFill>
        <p:spPr>
          <a:xfrm>
            <a:off x="609480" y="2819520"/>
            <a:ext cx="3505320" cy="260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http://www.arthursclipart.org/elephants/elephants/elephant%20picture.gif"/>
          <p:cNvPicPr/>
          <p:nvPr/>
        </p:nvPicPr>
        <p:blipFill>
          <a:blip r:embed="rId2"/>
          <a:stretch/>
        </p:blipFill>
        <p:spPr>
          <a:xfrm>
            <a:off x="4648320" y="2514600"/>
            <a:ext cx="39621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pond to stimul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5" descr="http://mrbenton.com/images/stimresp.jpg"/>
          <p:cNvPicPr/>
          <p:nvPr/>
        </p:nvPicPr>
        <p:blipFill>
          <a:blip r:embed="rId1"/>
          <a:stretch/>
        </p:blipFill>
        <p:spPr>
          <a:xfrm>
            <a:off x="685800" y="1905120"/>
            <a:ext cx="2590920" cy="3289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biology.kenyon.edu/edwards/project/kathleen/images/pot2.gif"/>
          <p:cNvPicPr/>
          <p:nvPr/>
        </p:nvPicPr>
        <p:blipFill>
          <a:blip r:embed="rId2"/>
          <a:stretch/>
        </p:blipFill>
        <p:spPr>
          <a:xfrm>
            <a:off x="4724280" y="3048120"/>
            <a:ext cx="3594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intain homeosta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http://www.macronutrients.net/wp-content/uploads/2011/12/Homeostasis.gif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abo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Autotrophs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Heterotroph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8" descr="http://companionplants.com/images/small-plant2.jpg"/>
          <p:cNvPicPr/>
          <p:nvPr/>
        </p:nvPicPr>
        <p:blipFill>
          <a:blip r:embed="rId1"/>
          <a:stretch/>
        </p:blipFill>
        <p:spPr>
          <a:xfrm>
            <a:off x="609480" y="2438280"/>
            <a:ext cx="3429000" cy="4191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animallamina.files.wordpress.com/2010/11/eating-hamster.jpg"/>
          <p:cNvPicPr/>
          <p:nvPr/>
        </p:nvPicPr>
        <p:blipFill>
          <a:blip r:embed="rId2"/>
          <a:stretch/>
        </p:blipFill>
        <p:spPr>
          <a:xfrm>
            <a:off x="4800600" y="2590920"/>
            <a:ext cx="36702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4:25:26Z</dcterms:created>
  <dc:creator>Administrator</dc:creator>
  <dc:description/>
  <dc:language>en-US</dc:language>
  <cp:lastModifiedBy>Dawn  Marshall</cp:lastModifiedBy>
  <dcterms:modified xsi:type="dcterms:W3CDTF">2013-03-14T14:07:53Z</dcterms:modified>
  <cp:revision>16</cp:revision>
  <dc:subject/>
  <dc:title>Bio Boot Camp</dc:title>
</cp:coreProperties>
</file>